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BDB-DD32-49E4-8D2D-DEE6A5E3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97C7-3FB7-4204-8C8A-4FBB409E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D15-7833-4431-9241-DB2A717A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3963-BF8E-4E49-BA53-0B3DC903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A927-2BF7-4C2B-B6F8-265EA5D0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70E-0C40-4436-9F90-89D09002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341C-F0DB-4550-BA57-F2E46DC2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C927-8801-4B85-8CC7-A9E1598B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074C-0CB0-4073-81E8-310D8E84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3CE-669D-44A2-A001-2BB092B8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DD64-3F8A-4F2D-B298-8EDD2AED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F3F-46E9-4C18-9C02-EB445116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5359-E121-46AF-94FF-F81654960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" Target="slide7.xml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52388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АВТОМАТИЗАЦИЯ НАЛОГОВОГО УЧЕТА ПРЕДПРИЯТИЯ</a:t>
            </a:r>
            <a:endParaRPr b="0" lang="en-US" sz="54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42" name="logo7" descr=""/>
          <p:cNvPicPr/>
          <p:nvPr/>
        </p:nvPicPr>
        <p:blipFill>
          <a:blip r:embed="rId1"/>
          <a:stretch/>
        </p:blipFill>
        <p:spPr>
          <a:xfrm>
            <a:off x="152280" y="6324480"/>
            <a:ext cx="25732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Пример №2 (НУ)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87" name="logo7" descr=""/>
          <p:cNvPicPr/>
          <p:nvPr/>
        </p:nvPicPr>
        <p:blipFill>
          <a:blip r:embed="rId1"/>
          <a:stretch/>
        </p:blipFill>
        <p:spPr>
          <a:xfrm>
            <a:off x="228600" y="6172200"/>
            <a:ext cx="2573280" cy="409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480" y="7621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Перенос данных на дополнительные счета + необходимая модификац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8077320" cy="4191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124080" y="586728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ис.2. Перенос данных на счета налогового уч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9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Пример №2 (НУ) – продолжение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838080"/>
            <a:ext cx="76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) Выполняем проводки на налоговые счета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logo7" descr=""/>
          <p:cNvPicPr/>
          <p:nvPr/>
        </p:nvPicPr>
        <p:blipFill>
          <a:blip r:embed="rId1"/>
          <a:stretch/>
        </p:blipFill>
        <p:spPr>
          <a:xfrm>
            <a:off x="228600" y="6172200"/>
            <a:ext cx="2573280" cy="409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342900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) Распределяем убыток на будущие периоды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2120" y="1224000"/>
          <a:ext cx="8622000" cy="3119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1224000"/>
                    <a:ext cx="862200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28600" y="3962520"/>
          <a:ext cx="8523360" cy="2708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3962520"/>
                    <a:ext cx="852336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560" y="304560"/>
            <a:ext cx="8839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Пример №2 (НУ) – продолжение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00" name="logo7" descr=""/>
          <p:cNvPicPr/>
          <p:nvPr/>
        </p:nvPicPr>
        <p:blipFill>
          <a:blip r:embed="rId1"/>
          <a:stretch/>
        </p:blipFill>
        <p:spPr>
          <a:xfrm>
            <a:off x="304920" y="6095880"/>
            <a:ext cx="2573280" cy="409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11430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По данным на дополнительных счетах формируем регистр налогового уче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905120"/>
            <a:ext cx="8458200" cy="3733560"/>
          </a:xfrm>
          <a:prstGeom prst="rect">
            <a:avLst/>
          </a:prstGeom>
          <a:solidFill>
            <a:srgbClr val="f8f8f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56386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ис.3 РНУ Реализация амортизируемого имуще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8153280" y="5943600"/>
            <a:ext cx="762120" cy="685800"/>
          </a:xfrm>
          <a:custGeom>
            <a:avLst/>
            <a:gdLst>
              <a:gd name="textAreaLeft" fmla="*/ 0 w 762120"/>
              <a:gd name="textAreaRight" fmla="*/ 762480 w 7621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4003" y="0"/>
                </a:lnTo>
                <a:lnTo>
                  <a:pt x="0" y="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4003" y="21600"/>
                </a:lnTo>
                <a:lnTo>
                  <a:pt x="24003" y="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4003" y="216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4003" h="21600">
                <a:moveTo>
                  <a:pt x="12001" y="2800"/>
                </a:moveTo>
                <a:lnTo>
                  <a:pt x="14961" y="5800"/>
                </a:lnTo>
                <a:lnTo>
                  <a:pt x="14961" y="3800"/>
                </a:lnTo>
                <a:lnTo>
                  <a:pt x="17001" y="3800"/>
                </a:lnTo>
                <a:lnTo>
                  <a:pt x="17001" y="7840"/>
                </a:lnTo>
                <a:lnTo>
                  <a:pt x="20001" y="10800"/>
                </a:lnTo>
                <a:lnTo>
                  <a:pt x="18101" y="10800"/>
                </a:lnTo>
                <a:lnTo>
                  <a:pt x="18101" y="19060"/>
                </a:lnTo>
                <a:lnTo>
                  <a:pt x="5901" y="19060"/>
                </a:lnTo>
                <a:lnTo>
                  <a:pt x="5901" y="10800"/>
                </a:lnTo>
                <a:lnTo>
                  <a:pt x="4001" y="10800"/>
                </a:lnTo>
                <a:close/>
              </a:path>
              <a:path fill="darkenLess" w="24003" h="21600">
                <a:moveTo>
                  <a:pt x="14961" y="5800"/>
                </a:moveTo>
                <a:lnTo>
                  <a:pt x="14961" y="3800"/>
                </a:lnTo>
                <a:lnTo>
                  <a:pt x="17001" y="3800"/>
                </a:lnTo>
                <a:lnTo>
                  <a:pt x="17001" y="7840"/>
                </a:lnTo>
                <a:close/>
              </a:path>
              <a:path fill="darkenLess" w="24003" h="21600">
                <a:moveTo>
                  <a:pt x="10941" y="14820"/>
                </a:moveTo>
                <a:lnTo>
                  <a:pt x="13061" y="14820"/>
                </a:lnTo>
                <a:lnTo>
                  <a:pt x="13061" y="19060"/>
                </a:lnTo>
                <a:lnTo>
                  <a:pt x="18101" y="19060"/>
                </a:lnTo>
                <a:lnTo>
                  <a:pt x="18101" y="10800"/>
                </a:lnTo>
                <a:lnTo>
                  <a:pt x="5901" y="10800"/>
                </a:lnTo>
                <a:lnTo>
                  <a:pt x="5901" y="19060"/>
                </a:lnTo>
                <a:lnTo>
                  <a:pt x="10941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905120"/>
          <a:ext cx="8458200" cy="3657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84582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Способы занесения данных на счета налогового учета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ренос + необходимая модификация проводок 1 раз за отчетный период (Пример 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полнительная проводка в момент возникновения   дохода/расхода в бухучете. Для примера 2: одновременно с проводк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o7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2573280" cy="40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531720" y="3043080"/>
          <a:ext cx="8288280" cy="1694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1720" y="3043080"/>
                    <a:ext cx="8288280" cy="16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609480" y="419112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едует выполнять проводку на налоговые счета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1720" y="4648320"/>
          <a:ext cx="8263080" cy="19414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1720" y="4648320"/>
                    <a:ext cx="826308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Возможности системы</a:t>
            </a:r>
            <a:br>
              <a:rPr sz="3200"/>
            </a:b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налогового учета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четание нескольких подходов к организации налогового учета, выбор оптимального сочетания метод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окальные изменения - можно изменить метод учета отдельного вида доходов/расходов, не изменяя систему в цело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менимость на многих предприятиях с предварительной настройк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ogo7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257328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logo7" descr=""/>
          <p:cNvPicPr/>
          <p:nvPr/>
        </p:nvPicPr>
        <p:blipFill>
          <a:blip r:embed="rId1"/>
          <a:stretch/>
        </p:blipFill>
        <p:spPr>
          <a:xfrm>
            <a:off x="152280" y="6324480"/>
            <a:ext cx="2573280" cy="409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3520" y="990720"/>
            <a:ext cx="8153280" cy="14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ЛУКИН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Ольга Вячеславов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2819520"/>
            <a:ext cx="6858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ДУЩИЙ СПЕЦИАЛИ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О ГЕЛИКОН ПР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. (3422) 103-101, 103-178, 103-7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: lov@gelicon.perm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gelicon.perm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ТРЕБОВАНИЯ К СИСТЕМЕ НАЛОГОВОГО УЧЕТА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44" name="logo7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2573280" cy="40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4678200"/>
            <a:ext cx="771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инимальные затраты рабочего времени бухгал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362320"/>
            <a:ext cx="77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стота реализ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3276720"/>
            <a:ext cx="771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ибкость, возможность быстрой    адаптации к изменения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ПОДХОДЫ</a:t>
            </a:r>
            <a:br>
              <a:rPr sz="4000"/>
            </a:b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к организации учета доходов и расходов в целях налогообложения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каз от разделения налогового и бухгалтерского учетов - закрытие различий с помощью дополнительной анали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деление налогового учета от бухгалтерского - ведение двух независимых планов сче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ogo7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257328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logo7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2573280" cy="409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380880"/>
            <a:ext cx="84582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Пример №1 (БУ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д расхода: услуги ба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1600200"/>
          <a:ext cx="8386920" cy="1719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600200"/>
                    <a:ext cx="838692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80880" y="3352680"/>
            <a:ext cx="81536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данного вида расхода различий между бухгалтерским и налоговым учетом нет, поэтому в этом случае предпочтительнее система отказа от разделения уче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04920"/>
            <a:ext cx="83059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Пример №2 (БУ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д расхода: реализация амортизируемого имущ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logo7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2573280" cy="40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57200" y="1595520"/>
          <a:ext cx="8313840" cy="2820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595520"/>
                    <a:ext cx="83138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533520" y="3962520"/>
            <a:ext cx="807696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формирования налогового регистра нужн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связать доход и расход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рассчитать остаточную стоимость в целях налогообложения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распределить убытки на несколько отчетных перио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Пример №2 (БУ) – продолжение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62" name="logo7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2573280" cy="409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1066680"/>
            <a:ext cx="838188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) Отказ от разделения бухгалтерского и налогового учета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18576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дополнительная аналитика на 91 счете (основное средство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18576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дополнительный субсчет для учета амортизации для налогообложения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18576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дополнительный субсчет для распределения убытков на будущие перио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18576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возможно, дополнительный субсчет для формирования налогооблагаемой баз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0292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7800" y="472428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) Раздельное ведение налогового и бухгалтерского планов счетов - потребуется примерно то же самое, но ведение учета отдельно не будет загромождать бухгалтерию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logo7" descr=""/>
          <p:cNvPicPr/>
          <p:nvPr/>
        </p:nvPicPr>
        <p:blipFill>
          <a:blip r:embed="rId1"/>
          <a:stretch/>
        </p:blipFill>
        <p:spPr>
          <a:xfrm>
            <a:off x="228600" y="6172200"/>
            <a:ext cx="2573280" cy="409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3808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Отказ от разделения уче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30492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Ведение налогового учета в отдельном плане сче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2935440"/>
            <a:ext cx="79246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полнительные счета для учета различий в признании доходов и расход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Если нет различий между учетами: формируем регистр по данным бухгалтерского учета, итоговые суммы за квартал переносим на дополнительный сче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Если есть различия: храним на дополнительных счетах информацию, достаточную для формирования регист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98920" y="1438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7480" y="1438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Пример №1 (НУ)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1447920"/>
            <a:ext cx="7315200" cy="4419360"/>
          </a:xfrm>
          <a:prstGeom prst="rect">
            <a:avLst/>
          </a:prstGeom>
          <a:solidFill>
            <a:srgbClr val="f8f8f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logo7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2573280" cy="40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990720" y="1523880"/>
          <a:ext cx="71625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523880"/>
                    <a:ext cx="71625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971800" y="59436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ис.1. РНУ «Расходы - услуги банк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4" action="ppaction://hlinksldjump"/>
          </p:cNvPr>
          <p:cNvSpPr/>
          <p:nvPr/>
        </p:nvSpPr>
        <p:spPr>
          <a:xfrm>
            <a:off x="533520" y="990720"/>
            <a:ext cx="816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Регистр формируется по данным бухгалтерского уче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99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Пример №1 (НУ) – продолжение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80" name="logo7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2573280" cy="409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17680" y="914400"/>
            <a:ext cx="816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Выполняется проводка на счета налогового учета на сумму «Итого за квартал»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84120" y="1830240"/>
          <a:ext cx="8621640" cy="1497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1830240"/>
                    <a:ext cx="8621640" cy="14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517680" y="3392640"/>
            <a:ext cx="809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нном случае перенос итоговых данных за квартал на счета налогового учета нужен для формирования сводных справок, например, «Справки о внереализационных расхода» за отчетный пери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8153280" y="5867280"/>
            <a:ext cx="762120" cy="762120"/>
          </a:xfrm>
          <a:custGeom>
            <a:avLst/>
            <a:gdLst>
              <a:gd name="textAreaLeft" fmla="*/ 0 w 762120"/>
              <a:gd name="textAreaRight" fmla="*/ 762480 w 7621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2T05:16:04Z</dcterms:created>
  <dc:creator>lov</dc:creator>
  <dc:description/>
  <dc:language>en-US</dc:language>
  <cp:lastModifiedBy>В.В. Шишляев</cp:lastModifiedBy>
  <dcterms:modified xsi:type="dcterms:W3CDTF">2002-12-10T14:51:43Z</dcterms:modified>
  <cp:revision>181</cp:revision>
  <dc:subject/>
  <dc:title>Заголовок слайда отсутствует</dc:title>
</cp:coreProperties>
</file>